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D73-14C1-4EAF-B867-B854B60B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2C8-BB23-4532-8EB1-084CA8F6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8D9-8FF3-4ADA-AA92-3C36D141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D15-16E7-4EA6-8055-E16E4EB4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0B60-33F8-4D76-B13F-5155D8A7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51CD-09EF-4AE9-950D-60A7BB97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3D37-679A-4791-A759-98058143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C6FD-CB68-46A5-A219-BA2E40BD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10B6-AA18-44CD-B2C1-97270C95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61A1-4FC6-4FC2-B934-EEA5C8A6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5C14-C4B7-4011-B9A2-753EC32D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7A1-0000-4D8A-AE17-CF8C512F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5C34-1F04-4013-B78F-7A72FCF7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4A76-E8FC-4375-B71A-CF0791EE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896C-7998-4E23-BFCE-423A7922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9F41-4BA3-427B-9087-560370E8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7CEF-6E5A-48E0-B772-F142AD31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74E-442F-4101-AAB3-11772351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15B-5E33-4907-99D7-BF7E4654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F6E-4028-49C9-BD19-3F408AB1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FB2-58C2-4885-B8F2-95E81913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C26-D958-47A8-BDB9-38D2DD6A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AC5-A114-439B-97D0-0836D1B0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B3F-8E2C-4D75-BA7D-6FDF3203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68CE-BFD6-4D33-B244-F1CF61C26F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8710-DDBE-41F9-955D-8F0D107B10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55840" y="281160"/>
            <a:ext cx="4195800" cy="70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moris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morilla burlad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o m’era mora Moraim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illa de un bel cat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ristiano vino  a mi puert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uitada, por m’engañ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ablóme en algarab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mo aquél que la bien sab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Abrasme las puertas, mo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 Alá te guarde de 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¿Cómo t’abriré, mezquin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no sé quién te será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Yo soy el moro Mazo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ermano de la tu mad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un cristiano dejó muer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ras de mí venía el alcal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 no me abres tú, mi v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70800" y="690480"/>
            <a:ext cx="286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quí me verás matar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uando esto oí, cuitad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mencéme a levant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vistiérame una almej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hallando mi bri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fuérame para la puer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bríla de par en par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0:35:07Z</dcterms:created>
  <dc:creator> </dc:creator>
  <dc:description/>
  <dc:language>en-US</dc:language>
  <cp:lastModifiedBy> </cp:lastModifiedBy>
  <dcterms:modified xsi:type="dcterms:W3CDTF">2007-09-28T01:07:52Z</dcterms:modified>
  <cp:revision>3</cp:revision>
  <dc:subject/>
  <dc:title>Diapositiva 1</dc:title>
</cp:coreProperties>
</file>